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0D4-8E0B-4532-90E8-E2B44DC8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5D-352F-4342-89A3-4D870C64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3C9-AFB3-4BA8-B161-290897B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2E3-0424-4F89-B1BA-25C14825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3419-3C12-433D-87E4-0A1AC1FB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BD97-B19A-4FE9-8B97-655641A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DB4F-9226-4475-97D6-5343031B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2A6-26AC-497F-95F7-0AD456D1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C1F5-A118-471B-B943-12833E08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3B3E-C97B-4786-AF41-D8DF7EB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2887-210E-43F9-99C5-54BB440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ADB-5BE9-4C00-A5D7-597B4262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3DFC-EA51-41E8-B830-9BB404A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F8F-B71A-432B-957B-293048F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FF84-E040-48AF-9CB8-9B4C6FDE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F63-F75A-46AD-BABF-BD653D60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0E11-C638-43D0-B260-C251AA66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C26-9DEE-4E71-BB46-56647EA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F4C-603D-4E65-B274-97EE1C8E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8D2-AF0C-44CC-B53B-80409E29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A80-3BE4-4959-9DDC-FD4DF21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1E1-355C-4F9C-BA69-D090711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EA3-7463-49D4-8F33-B31AFD4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473-1E5C-4172-9BF6-F5B9D6F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8883-016B-49CC-A526-650974F1765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1DF-C931-4D28-AEA6-73EA5A758D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هو عظيم ح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 الأكو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جابل الإنس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رّفني درب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خلقتني من العد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لأتني من النع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غفرت ذن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م وكم يا جابلي أشكر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فخت فيّ روح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قشت فيّ ر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شفت لي عن ا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ي أحبّ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29T16:46:04Z</dcterms:modified>
  <cp:revision>18</cp:revision>
  <dc:subject/>
  <dc:title>Slide 1</dc:title>
</cp:coreProperties>
</file>